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CCB-9D89-48CA-AD93-8C632663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7F7-132B-4BC1-AF35-B2D3871D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D22-4998-456B-8ABE-690DB31E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9A5C-7D57-4C39-BC3D-D04A4533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F1F2-A6B9-41DD-A248-9CE22F8A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B12D-50D7-439C-BCE4-80E752B1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EC0-65D4-41B6-A23D-AB6352D0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086-57F7-4102-AFD2-6BC8BAC1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791-68F3-4D61-9DB1-50CDE54E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95DC-BA6D-47C5-94FE-6FB9F5C8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882-5677-447F-8A77-DFDE0798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EE7-1013-4DD0-A5AF-1EC4228A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4295-D441-4E0A-A4C5-78E07A9DFC9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c1c1d"/>
            </a:gs>
            <a:gs pos="100000">
              <a:srgbClr val="000000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274680"/>
            <a:ext cx="853452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Calibri"/>
                <a:ea typeface="Calibri"/>
              </a:rPr>
              <a:t>Radio Station A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 - FM network using a radio wave of </a:t>
            </a:r>
            <a:r>
              <a:rPr b="0" lang="en-NZ" sz="3600" spc="-1" strike="noStrike">
                <a:solidFill>
                  <a:srgbClr val="ffff00"/>
                </a:solidFill>
                <a:latin typeface="Calibri"/>
                <a:ea typeface="Calibri"/>
              </a:rPr>
              <a:t>93.4 MHz 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(93.4 ×10</a:t>
            </a:r>
            <a:r>
              <a:rPr b="0" lang="en-NZ" sz="36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6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 Hz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Calibri"/>
                <a:ea typeface="Calibri"/>
              </a:rPr>
              <a:t>Radio Station B 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- AM network using a radio wave of </a:t>
            </a:r>
            <a:r>
              <a:rPr b="0" lang="en-NZ" sz="3600" spc="-1" strike="noStrike">
                <a:solidFill>
                  <a:srgbClr val="ffff00"/>
                </a:solidFill>
                <a:latin typeface="Calibri"/>
                <a:ea typeface="Calibri"/>
              </a:rPr>
              <a:t>856 kHz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Calculate the </a:t>
            </a:r>
            <a:r>
              <a:rPr b="0" lang="en-NZ" sz="3600" spc="-1" strike="noStrike">
                <a:solidFill>
                  <a:srgbClr val="ffff00"/>
                </a:solidFill>
                <a:latin typeface="Calibri"/>
                <a:ea typeface="Calibri"/>
              </a:rPr>
              <a:t>wavelength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 of </a:t>
            </a:r>
            <a:r>
              <a:rPr b="0" lang="en-NZ" sz="36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each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 st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When Zac is standing behind a hill, </a:t>
            </a:r>
            <a:r>
              <a:rPr b="0" lang="en-NZ" sz="3600" spc="-1" strike="noStrike">
                <a:solidFill>
                  <a:srgbClr val="ffff00"/>
                </a:solidFill>
                <a:latin typeface="Calibri"/>
                <a:ea typeface="Calibri"/>
              </a:rPr>
              <a:t>he can only tune into one of the two stations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. Identify which station he can hear and explain why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914400" y="477720"/>
            <a:ext cx="716292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220px-Wavelength=slitwidthspectrum.gif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438280" y="3666960"/>
            <a:ext cx="4191120" cy="3191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2133720" y="0"/>
            <a:ext cx="46479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362320" y="4343400"/>
            <a:ext cx="3801960" cy="2438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3505320" cy="2756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838080" y="2054160"/>
            <a:ext cx="3200400" cy="2289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304920" y="29376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ap – maximum diffraction occurs when the wavelength is equal to the size of the gap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04920" y="896760"/>
            <a:ext cx="85341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alibri"/>
                <a:ea typeface="Calibri"/>
              </a:rPr>
              <a:t>Diffraction 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alibri"/>
                <a:ea typeface="Calibri"/>
              </a:rPr>
              <a:t>&amp; 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alibri"/>
                <a:ea typeface="Calibri"/>
              </a:rPr>
              <a:t>Interference Pattern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99072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762120" y="106524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Comic Sans MS"/>
              </a:rPr>
              <a:t>What would happen if there are </a:t>
            </a:r>
            <a:r>
              <a:rPr b="1" lang="en-NZ" sz="5400" spc="-1" strike="noStrike" u="sng">
                <a:solidFill>
                  <a:srgbClr val="000000"/>
                </a:solidFill>
                <a:uFillTx/>
                <a:latin typeface="Comic Sans MS"/>
              </a:rPr>
              <a:t>two</a:t>
            </a:r>
            <a:r>
              <a:rPr b="0" lang="en-NZ" sz="5400" spc="-1" strike="noStrike">
                <a:solidFill>
                  <a:srgbClr val="000000"/>
                </a:solidFill>
                <a:latin typeface="Comic Sans MS"/>
              </a:rPr>
              <a:t> gaps?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33520" y="0"/>
            <a:ext cx="79801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Straight Connector 9"/>
          <p:cNvSpPr/>
          <p:nvPr/>
        </p:nvSpPr>
        <p:spPr>
          <a:xfrm>
            <a:off x="2743200" y="3429000"/>
            <a:ext cx="3809880" cy="144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Straight Connector 13"/>
          <p:cNvSpPr/>
          <p:nvPr/>
        </p:nvSpPr>
        <p:spPr>
          <a:xfrm flipH="1">
            <a:off x="2819160" y="2590920"/>
            <a:ext cx="3809880" cy="76176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Straight Connector 15"/>
          <p:cNvSpPr/>
          <p:nvPr/>
        </p:nvSpPr>
        <p:spPr>
          <a:xfrm flipH="1" flipV="1">
            <a:off x="2819160" y="3505320"/>
            <a:ext cx="3733560" cy="76176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Straight Connector 17"/>
          <p:cNvSpPr/>
          <p:nvPr/>
        </p:nvSpPr>
        <p:spPr>
          <a:xfrm flipH="1">
            <a:off x="2819160" y="1599480"/>
            <a:ext cx="3809880" cy="160020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Straight Connector 19"/>
          <p:cNvSpPr/>
          <p:nvPr/>
        </p:nvSpPr>
        <p:spPr>
          <a:xfrm flipH="1" flipV="1">
            <a:off x="2895480" y="3580920"/>
            <a:ext cx="3657600" cy="175284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Straight Connector 21"/>
          <p:cNvSpPr/>
          <p:nvPr/>
        </p:nvSpPr>
        <p:spPr>
          <a:xfrm flipH="1">
            <a:off x="2819160" y="2133000"/>
            <a:ext cx="373356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Straight Connector 23"/>
          <p:cNvSpPr/>
          <p:nvPr/>
        </p:nvSpPr>
        <p:spPr>
          <a:xfrm flipH="1">
            <a:off x="3048120" y="2971800"/>
            <a:ext cx="3504960" cy="380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Straight Connector 25"/>
          <p:cNvSpPr/>
          <p:nvPr/>
        </p:nvSpPr>
        <p:spPr>
          <a:xfrm flipH="1" flipV="1">
            <a:off x="2971440" y="3505320"/>
            <a:ext cx="3505320" cy="304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Straight Connector 29"/>
          <p:cNvSpPr/>
          <p:nvPr/>
        </p:nvSpPr>
        <p:spPr>
          <a:xfrm flipH="1" flipV="1">
            <a:off x="2971800" y="3580920"/>
            <a:ext cx="3581280" cy="1219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2"/>
          <a:stretch/>
        </p:blipFill>
        <p:spPr>
          <a:xfrm>
            <a:off x="6553080" y="609480"/>
            <a:ext cx="1981440" cy="5486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3"/>
          <a:stretch/>
        </p:blipFill>
        <p:spPr>
          <a:xfrm>
            <a:off x="6705720" y="914400"/>
            <a:ext cx="609480" cy="5181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45"/>
          <p:cNvSpPr/>
          <p:nvPr/>
        </p:nvSpPr>
        <p:spPr>
          <a:xfrm>
            <a:off x="7315200" y="906480"/>
            <a:ext cx="15238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Da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Brigh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Da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Brigh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Da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Brigh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Da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Brigh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Da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Brigh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Da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4"/>
          <a:stretch/>
        </p:blipFill>
        <p:spPr>
          <a:xfrm>
            <a:off x="6593040" y="838080"/>
            <a:ext cx="186516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C:\Users\ch\Desktop\PHY201\[030] wk9 tue\Doubleslit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c1c1d"/>
            </a:gs>
            <a:gs pos="100000">
              <a:srgbClr val="000000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457200" y="274680"/>
            <a:ext cx="83059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alibri"/>
                <a:ea typeface="Calibri"/>
              </a:rPr>
              <a:t>Station A:    Wavelength = 3.21 m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alibri"/>
                <a:ea typeface="Calibri"/>
              </a:rPr>
              <a:t>Station B:    Wavelength = 350 m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Zac will be able to hear station B because: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the radio waves from Station B have longer wavelength which means it can diffract over the hill better than the radio waves from station A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533520" y="338040"/>
            <a:ext cx="830556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 u="sng">
                <a:solidFill>
                  <a:srgbClr val="000000"/>
                </a:solidFill>
                <a:uFillTx/>
                <a:latin typeface="Comic Sans MS"/>
              </a:rPr>
              <a:t>Question</a:t>
            </a: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What would happen to the pattern if;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the screen is brought closer?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the two gaps are further apart from each other?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the frequency is increased?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457200" y="338040"/>
            <a:ext cx="8458200" cy="61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If the screen is brought closer: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060"/>
                </a:solidFill>
                <a:latin typeface="Comic Sans MS"/>
              </a:rPr>
              <a:t>The fringes will be closer together and brighte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If the two gaps are further apart from each other: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060"/>
                </a:solidFill>
                <a:latin typeface="Comic Sans MS"/>
              </a:rPr>
              <a:t>The fringes will be further apar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If the frequency is increased: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060"/>
                </a:solidFill>
                <a:latin typeface="Comic Sans MS"/>
              </a:rPr>
              <a:t>The fringes will be further apar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3808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NCEA 2006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304920" y="4689360"/>
            <a:ext cx="86104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: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a physics reason why Roy and Sally could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 the sound of the waves when they were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ting behind a building at the beach, even though they could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ee the waves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because sound waves have a long wavelength. Light waves’ short wavelength means they will not be diffracted. (Merit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752480" y="800280"/>
            <a:ext cx="5562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04920" y="896760"/>
            <a:ext cx="8534160" cy="49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Comic Sans MS"/>
              </a:rPr>
              <a:t>The Properties of Waves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frac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uperposi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iffraction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28600" y="228600"/>
            <a:ext cx="8686800" cy="57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  <a:ea typeface="Calibri"/>
              </a:rPr>
              <a:t>Diffraction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Bending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 of waves around a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barrier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 or out through a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ga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The longer the wavelength, the more the diffraction of waves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When passing through a gap, maximum diffraction occurs when the wavelength equals the size of the ga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318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00080" y="533520"/>
            <a:ext cx="8967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33720" y="4132440"/>
            <a:ext cx="4343400" cy="2649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752480" y="1889280"/>
            <a:ext cx="5562720" cy="2606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457200" y="304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longer the wavelength, the more the diffrac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756120" cy="5029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2209680" y="2133720"/>
            <a:ext cx="67024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Chu</cp:lastModifiedBy>
  <dcterms:modified xsi:type="dcterms:W3CDTF">2013-03-24T03:55:07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